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media/image50.gif" ContentType="image/gif"/>
  <Override PartName="/ppt/media/image10.wmf" ContentType="image/x-wmf"/>
  <Override PartName="/ppt/media/image46.wmf" ContentType="image/x-wmf"/>
  <Override PartName="/ppt/media/image44.wmf" ContentType="image/x-wmf"/>
  <Override PartName="/ppt/media/image43.gif" ContentType="image/gif"/>
  <Override PartName="/ppt/media/cashreg.wav" ContentType="audio/x-wav"/>
  <Override PartName="/ppt/media/image42.wmf" ContentType="image/x-wmf"/>
  <Override PartName="/ppt/media/image41.wmf" ContentType="image/x-wmf"/>
  <Override PartName="/ppt/media/image40.wmf" ContentType="image/x-wmf"/>
  <Override PartName="/ppt/media/EXPLODE.WAV" ContentType="audio/x-wav"/>
  <Override PartName="/ppt/media/image33.wmf" ContentType="image/x-wmf"/>
  <Override PartName="/ppt/media/image32.wmf" ContentType="image/x-wmf"/>
  <Override PartName="/ppt/media/image45.wmf" ContentType="image/x-wmf"/>
  <Override PartName="/ppt/media/CAMERA.WAV" ContentType="audio/x-wav"/>
  <Override PartName="/ppt/media/image31.wmf" ContentType="image/x-wmf"/>
  <Override PartName="/ppt/media/image13.wmf" ContentType="image/x-wmf"/>
  <Override PartName="/ppt/media/image1.wmf" ContentType="image/x-wmf"/>
  <Override PartName="/ppt/media/image29.wmf" ContentType="image/x-wmf"/>
  <Override PartName="/ppt/media/WHOOSH.WAV" ContentType="audio/x-wav"/>
  <Override PartName="/ppt/media/image59.wmf" ContentType="image/x-wmf"/>
  <Override PartName="/ppt/media/image22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.wmf" ContentType="image/x-wmf"/>
  <Override PartName="/ppt/media/image15.wmf" ContentType="image/x-wmf"/>
  <Override PartName="/ppt/media/image20.wmf" ContentType="image/x-wmf"/>
  <Override PartName="/ppt/media/driveby.wav" ContentType="audio/x-wav"/>
  <Override PartName="/ppt/media/image52.wmf" ContentType="image/x-wmf"/>
  <Override PartName="/ppt/media/image2.wmf" ContentType="image/x-wmf"/>
  <Override PartName="/ppt/media/image14.wmf" ContentType="image/x-wmf"/>
  <Override PartName="/ppt/media/LASER.WAV" ContentType="audio/x-wav"/>
  <Override PartName="/ppt/media/image51.wmf" ContentType="image/x-wmf"/>
  <Override PartName="/ppt/media/image28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glass.wav" ContentType="audio/x-wav"/>
  <Override PartName="/ppt/media/image36.wmf" ContentType="image/x-wmf"/>
  <Override PartName="/ppt/media/image6.wmf" ContentType="image/x-wmf"/>
  <Override PartName="/ppt/media/image1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47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CHIMES.WAV" ContentType="audio/x-wav"/>
  <Override PartName="/ppt/media/image49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projctor.wav" ContentType="audio/x-wav"/>
  <Override PartName="/ppt/media/image3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9D7-6CF3-4CB3-8F87-806044E5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628-38A8-403F-8B06-8C68923D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1F4-9A49-4E5B-ACF4-7572D6BB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062-C868-40C1-9F4C-C7259EE3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813-3CA4-4094-ABD0-18AA50F0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010-6BAF-41A1-A41F-66870111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726-8153-44FB-8AAF-AAF20B71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9B6-3A9A-498D-800C-D445B153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985-7A88-45DB-9990-14CED4D0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3F6-6BB0-47D5-8A62-031B88F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A0E-95BD-4221-AED6-2EEA7B6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83D-3354-4BDE-BC8B-C840F058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3499-2E85-4BFB-B142-A8E903823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6.wmf"/><Relationship Id="rId39" Type="http://schemas.openxmlformats.org/officeDocument/2006/relationships/audio" Target="../media/WHOOSH.WAV"/><Relationship Id="rId40" Type="http://schemas.openxmlformats.org/officeDocument/2006/relationships/audio" Target="../media/CHIMES.WAV"/><Relationship Id="rId41" Type="http://schemas.openxmlformats.org/officeDocument/2006/relationships/audio" Target="../media/CAMERA.WAV"/><Relationship Id="rId42" Type="http://schemas.openxmlformats.org/officeDocument/2006/relationships/audio" Target="../media/CAMERA.WAV"/><Relationship Id="rId43" Type="http://schemas.openxmlformats.org/officeDocument/2006/relationships/audio" Target="../media/CHIMES.WAV"/><Relationship Id="rId44" Type="http://schemas.openxmlformats.org/officeDocument/2006/relationships/audio" Target="../media/EXPLODE.WAV"/><Relationship Id="rId45" Type="http://schemas.openxmlformats.org/officeDocument/2006/relationships/audio" Target="../media/projctor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projctor.wav"/><Relationship Id="rId51" Type="http://schemas.openxmlformats.org/officeDocument/2006/relationships/audio" Target="../media/EXPLODE.WAV"/><Relationship Id="rId52" Type="http://schemas.openxmlformats.org/officeDocument/2006/relationships/audio" Target="../media/EXPLODE.WAV"/><Relationship Id="rId53" Type="http://schemas.openxmlformats.org/officeDocument/2006/relationships/audio" Target="../media/EXPLODE.WAV"/><Relationship Id="rId54" Type="http://schemas.openxmlformats.org/officeDocument/2006/relationships/audio" Target="../media/glass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EXPLODE.WAV"/><Relationship Id="rId58" Type="http://schemas.openxmlformats.org/officeDocument/2006/relationships/audio" Target="../media/EXPLODE.WAV"/><Relationship Id="rId59" Type="http://schemas.openxmlformats.org/officeDocument/2006/relationships/audio" Target="../media/EXPLODE.WAV"/><Relationship Id="rId60" Type="http://schemas.openxmlformats.org/officeDocument/2006/relationships/audio" Target="../media/LASER.WAV"/><Relationship Id="rId61" Type="http://schemas.openxmlformats.org/officeDocument/2006/relationships/audio" Target="../media/LASER.WAV"/><Relationship Id="rId62" Type="http://schemas.openxmlformats.org/officeDocument/2006/relationships/audio" Target="../media/driveby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4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6.wmf"/><Relationship Id="rId43" Type="http://schemas.openxmlformats.org/officeDocument/2006/relationships/audio" Target="../media/EXPLODE.WAV"/><Relationship Id="rId44" Type="http://schemas.openxmlformats.org/officeDocument/2006/relationships/audio" Target="../media/projctor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audio" Target="../media/projctor.wav"/><Relationship Id="rId50" Type="http://schemas.openxmlformats.org/officeDocument/2006/relationships/audio" Target="../media/EXPLODE.WAV"/><Relationship Id="rId51" Type="http://schemas.openxmlformats.org/officeDocument/2006/relationships/audio" Target="../media/EXPLODE.WAV"/><Relationship Id="rId52" Type="http://schemas.openxmlformats.org/officeDocument/2006/relationships/audio" Target="../media/EXPLODE.WAV"/><Relationship Id="rId53" Type="http://schemas.openxmlformats.org/officeDocument/2006/relationships/audio" Target="../media/glass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LASER.WAV"/><Relationship Id="rId58" Type="http://schemas.openxmlformats.org/officeDocument/2006/relationships/audio" Target="../media/LASER.WAV"/><Relationship Id="rId59" Type="http://schemas.openxmlformats.org/officeDocument/2006/relationships/audio" Target="../media/EXPLODE.WAV"/><Relationship Id="rId60" Type="http://schemas.openxmlformats.org/officeDocument/2006/relationships/audio" Target="../media/EXPLODE.WAV"/><Relationship Id="rId61" Type="http://schemas.openxmlformats.org/officeDocument/2006/relationships/audio" Target="../media/LASER.WAV"/><Relationship Id="rId62" Type="http://schemas.openxmlformats.org/officeDocument/2006/relationships/audio" Target="../media/LASER.WAV"/><Relationship Id="rId63" Type="http://schemas.openxmlformats.org/officeDocument/2006/relationships/audio" Target="../media/driveby.wav"/><Relationship Id="rId64" Type="http://schemas.openxmlformats.org/officeDocument/2006/relationships/audio" Target="../media/EXPLODE.WAV"/><Relationship Id="rId65" Type="http://schemas.openxmlformats.org/officeDocument/2006/relationships/audio" Target="../media/EXPLODE.WAV"/><Relationship Id="rId66" Type="http://schemas.openxmlformats.org/officeDocument/2006/relationships/audio" Target="../media/EXPLODE.WAV"/><Relationship Id="rId6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4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6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6.wmf"/><Relationship Id="rId45" Type="http://schemas.openxmlformats.org/officeDocument/2006/relationships/audio" Target="../media/EXPLODE.WAV"/><Relationship Id="rId46" Type="http://schemas.openxmlformats.org/officeDocument/2006/relationships/audio" Target="../media/projctor.wav"/><Relationship Id="rId47" Type="http://schemas.openxmlformats.org/officeDocument/2006/relationships/audio" Target="../media/EXPLODE.WAV"/><Relationship Id="rId48" Type="http://schemas.openxmlformats.org/officeDocument/2006/relationships/audio" Target="../media/EXPLODE.WAV"/><Relationship Id="rId49" Type="http://schemas.openxmlformats.org/officeDocument/2006/relationships/audio" Target="../media/EXPLODE.WAV"/><Relationship Id="rId50" Type="http://schemas.openxmlformats.org/officeDocument/2006/relationships/audio" Target="../media/EXPLODE.WAV"/><Relationship Id="rId51" Type="http://schemas.openxmlformats.org/officeDocument/2006/relationships/audio" Target="../media/LASER.WAV"/><Relationship Id="rId52" Type="http://schemas.openxmlformats.org/officeDocument/2006/relationships/audio" Target="../media/LASER.WAV"/><Relationship Id="rId53" Type="http://schemas.openxmlformats.org/officeDocument/2006/relationships/audio" Target="../media/projctor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audio" Target="../media/EXPLODE.WAV"/><Relationship Id="rId57" Type="http://schemas.openxmlformats.org/officeDocument/2006/relationships/audio" Target="../media/glass.wav"/><Relationship Id="rId58" Type="http://schemas.openxmlformats.org/officeDocument/2006/relationships/audio" Target="../media/EXPLODE.WAV"/><Relationship Id="rId59" Type="http://schemas.openxmlformats.org/officeDocument/2006/relationships/audio" Target="../media/EXPLODE.WAV"/><Relationship Id="rId60" Type="http://schemas.openxmlformats.org/officeDocument/2006/relationships/audio" Target="../media/EXPLODE.WAV"/><Relationship Id="rId61" Type="http://schemas.openxmlformats.org/officeDocument/2006/relationships/audio" Target="../media/LASER.WAV"/><Relationship Id="rId62" Type="http://schemas.openxmlformats.org/officeDocument/2006/relationships/audio" Target="../media/LASER.WAV"/><Relationship Id="rId63" Type="http://schemas.openxmlformats.org/officeDocument/2006/relationships/audio" Target="../media/EXPLODE.WAV"/><Relationship Id="rId64" Type="http://schemas.openxmlformats.org/officeDocument/2006/relationships/audio" Target="../media/EXPLODE.WAV"/><Relationship Id="rId65" Type="http://schemas.openxmlformats.org/officeDocument/2006/relationships/audio" Target="../media/LASER.WAV"/><Relationship Id="rId66" Type="http://schemas.openxmlformats.org/officeDocument/2006/relationships/audio" Target="../media/LASER.WAV"/><Relationship Id="rId67" Type="http://schemas.openxmlformats.org/officeDocument/2006/relationships/audio" Target="../media/driveby.wav"/><Relationship Id="rId68" Type="http://schemas.openxmlformats.org/officeDocument/2006/relationships/audio" Target="../media/EXPLODE.WAV"/><Relationship Id="rId69" Type="http://schemas.openxmlformats.org/officeDocument/2006/relationships/audio" Target="../media/EXPLODE.WAV"/><Relationship Id="rId7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audio" Target="../media/cashreg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driveby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driveby.wav"/><Relationship Id="rId34" Type="http://schemas.openxmlformats.org/officeDocument/2006/relationships/audio" Target="../media/LASER.WAV"/><Relationship Id="rId35" Type="http://schemas.openxmlformats.org/officeDocument/2006/relationships/audio" Target="../media/driveby.wav"/><Relationship Id="rId36" Type="http://schemas.openxmlformats.org/officeDocument/2006/relationships/audio" Target="../media/LASER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EXPLODE.WAV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9.wmf"/><Relationship Id="rId20" Type="http://schemas.openxmlformats.org/officeDocument/2006/relationships/image" Target="../media/image50.gif"/><Relationship Id="rId21" Type="http://schemas.openxmlformats.org/officeDocument/2006/relationships/audio" Target="../media/cashreg.wav"/><Relationship Id="rId22" Type="http://schemas.openxmlformats.org/officeDocument/2006/relationships/audio" Target="../media/CAMERA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audio" Target="../media/CAMERA.WAV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9.wmf"/><Relationship Id="rId31" Type="http://schemas.openxmlformats.org/officeDocument/2006/relationships/image" Target="../media/image43.gif"/><Relationship Id="rId32" Type="http://schemas.openxmlformats.org/officeDocument/2006/relationships/image" Target="../media/image50.gif"/><Relationship Id="rId33" Type="http://schemas.openxmlformats.org/officeDocument/2006/relationships/audio" Target="../media/CAMERA.WAV"/><Relationship Id="rId34" Type="http://schemas.openxmlformats.org/officeDocument/2006/relationships/audio" Target="../media/glass.wav"/><Relationship Id="rId35" Type="http://schemas.openxmlformats.org/officeDocument/2006/relationships/audio" Target="../media/EXPLODE.WAV"/><Relationship Id="rId36" Type="http://schemas.openxmlformats.org/officeDocument/2006/relationships/audio" Target="../media/EXPLODE.WAV"/><Relationship Id="rId37" Type="http://schemas.openxmlformats.org/officeDocument/2006/relationships/audio" Target="../media/EXPLODE.WAV"/><Relationship Id="rId38" Type="http://schemas.openxmlformats.org/officeDocument/2006/relationships/audio" Target="../media/driveby.wav"/><Relationship Id="rId39" Type="http://schemas.openxmlformats.org/officeDocument/2006/relationships/audio" Target="../media/driveby.wav"/><Relationship Id="rId40" Type="http://schemas.openxmlformats.org/officeDocument/2006/relationships/audio" Target="../media/EXPLODE.WAV"/><Relationship Id="rId41" Type="http://schemas.openxmlformats.org/officeDocument/2006/relationships/audio" Target="../media/EXPLODE.WAV"/><Relationship Id="rId42" Type="http://schemas.openxmlformats.org/officeDocument/2006/relationships/audio" Target="../media/LASER.WAV"/><Relationship Id="rId43" Type="http://schemas.openxmlformats.org/officeDocument/2006/relationships/audio" Target="../media/LASER.WAV"/><Relationship Id="rId44" Type="http://schemas.openxmlformats.org/officeDocument/2006/relationships/audio" Target="../media/driveby.wav"/><Relationship Id="rId45" Type="http://schemas.openxmlformats.org/officeDocument/2006/relationships/audio" Target="../media/EXPLODE.WAV"/><Relationship Id="rId46" Type="http://schemas.openxmlformats.org/officeDocument/2006/relationships/audio" Target="../media/EXPLODE.WAV"/><Relationship Id="rId47" Type="http://schemas.openxmlformats.org/officeDocument/2006/relationships/audio" Target="../media/driveby.wav"/><Relationship Id="rId48" Type="http://schemas.openxmlformats.org/officeDocument/2006/relationships/audio" Target="../media/LASER.WAV"/><Relationship Id="rId49" Type="http://schemas.openxmlformats.org/officeDocument/2006/relationships/audio" Target="../media/driveby.wav"/><Relationship Id="rId50" Type="http://schemas.openxmlformats.org/officeDocument/2006/relationships/audio" Target="../media/LASER.WAV"/><Relationship Id="rId51" Type="http://schemas.openxmlformats.org/officeDocument/2006/relationships/audio" Target="../media/driveby.wav"/><Relationship Id="rId52" Type="http://schemas.openxmlformats.org/officeDocument/2006/relationships/audio" Target="../media/LASER.WAV"/><Relationship Id="rId53" Type="http://schemas.openxmlformats.org/officeDocument/2006/relationships/audio" Target="../media/EXPLODE.WAV"/><Relationship Id="rId54" Type="http://schemas.openxmlformats.org/officeDocument/2006/relationships/audio" Target="../media/EXPLODE.WAV"/><Relationship Id="rId55" Type="http://schemas.openxmlformats.org/officeDocument/2006/relationships/audio" Target="../media/EXPLODE.WAV"/><Relationship Id="rId5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42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oint-Slope Form of an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point-slope form of a line to write an equation of the line that passes through the given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0880" y="1488960"/>
                <a:ext cx="3657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6680" y="3165480"/>
                <a:ext cx="35528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,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002120" y="1547640"/>
                <a:ext cx="487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is slope,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is a point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" name=""/>
          <p:cNvGraphicFramePr/>
          <p:nvPr/>
        </p:nvGraphicFramePr>
        <p:xfrm>
          <a:off x="3657600" y="2895480"/>
          <a:ext cx="290196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89548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98480" y="4165560"/>
                <a:ext cx="47293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2" name=""/>
          <p:cNvGraphicFramePr/>
          <p:nvPr/>
        </p:nvGraphicFramePr>
        <p:xfrm>
          <a:off x="4724280" y="3048120"/>
          <a:ext cx="3952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769000" y="3048120"/>
          <a:ext cx="439560" cy="52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9000" y="3048120"/>
                    <a:ext cx="439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724280" y="3657600"/>
          <a:ext cx="4399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3657600"/>
                    <a:ext cx="439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791320" y="3657600"/>
          <a:ext cx="39528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1320" y="365760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7120" y="2895480"/>
          <a:ext cx="1361880" cy="14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2895480"/>
                    <a:ext cx="13618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988320" y="3048120"/>
          <a:ext cx="745920" cy="52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88320" y="3048120"/>
                    <a:ext cx="745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010280" y="3657600"/>
          <a:ext cx="7462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0280" y="3657600"/>
                    <a:ext cx="746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696080" y="3276720"/>
          <a:ext cx="833400" cy="52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96080" y="3276720"/>
                    <a:ext cx="8334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124080" y="4267080"/>
          <a:ext cx="51444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24080" y="4267080"/>
                    <a:ext cx="514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76920" y="4267080"/>
          <a:ext cx="51408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876920" y="4267080"/>
                    <a:ext cx="514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838080" y="4876920"/>
          <a:ext cx="185256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4876920"/>
                    <a:ext cx="1852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90920" y="4876920"/>
          <a:ext cx="16477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90920" y="4876920"/>
                    <a:ext cx="1647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352680" y="5334120"/>
          <a:ext cx="830520" cy="614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352680" y="5334120"/>
                    <a:ext cx="8305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295280" y="5334120"/>
          <a:ext cx="8305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95280" y="5334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38080" y="5943600"/>
            <a:ext cx="34290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133720" y="5943600"/>
          <a:ext cx="1338120" cy="609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33720" y="5943600"/>
                    <a:ext cx="1338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457440" y="5943600"/>
          <a:ext cx="822600" cy="609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457440" y="5943600"/>
                    <a:ext cx="822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90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oint-Slope Form of an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point-slope form of a line to write an equation of the line that passes through the given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5760" y="3192480"/>
                <a:ext cx="3724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,6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5" name=""/>
          <p:cNvGraphicFramePr/>
          <p:nvPr/>
        </p:nvGraphicFramePr>
        <p:xfrm>
          <a:off x="3801960" y="2895480"/>
          <a:ext cx="290196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2895480"/>
                    <a:ext cx="29019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11360" y="4146480"/>
                <a:ext cx="489744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4869000" y="3048120"/>
          <a:ext cx="3952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900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935680" y="3048120"/>
          <a:ext cx="395280" cy="52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3568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759200" y="3657600"/>
          <a:ext cx="66060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9200" y="3657600"/>
                    <a:ext cx="6606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935680" y="3657600"/>
          <a:ext cx="39528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5680" y="3657600"/>
                    <a:ext cx="3952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621480" y="2895480"/>
          <a:ext cx="1361880" cy="14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21480" y="2895480"/>
                    <a:ext cx="136188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307280" y="3048120"/>
          <a:ext cx="395280" cy="52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728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197840" y="3657600"/>
          <a:ext cx="65880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97840" y="3657600"/>
                    <a:ext cx="6588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840800" y="3276720"/>
          <a:ext cx="1141200" cy="52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40800" y="3276720"/>
                    <a:ext cx="11412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895480" y="4267080"/>
          <a:ext cx="82260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95480" y="4267080"/>
                    <a:ext cx="822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48040" y="4267080"/>
          <a:ext cx="77184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48040" y="4267080"/>
                    <a:ext cx="771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812880" y="4876920"/>
          <a:ext cx="190332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12880" y="4876920"/>
                    <a:ext cx="19033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590920" y="4876920"/>
          <a:ext cx="1957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90920" y="4876920"/>
                    <a:ext cx="1957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657600" y="5334120"/>
          <a:ext cx="830160" cy="614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657600" y="5334120"/>
                    <a:ext cx="830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95280" y="5334120"/>
          <a:ext cx="8305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95280" y="5334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38080" y="59436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133720" y="5943600"/>
          <a:ext cx="1647720" cy="609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33720" y="5943600"/>
                    <a:ext cx="1647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657600" y="5943600"/>
          <a:ext cx="822240" cy="609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657600" y="5943600"/>
                    <a:ext cx="822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343400" y="4267080"/>
          <a:ext cx="660240" cy="6098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343400" y="4267080"/>
                    <a:ext cx="660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724280" y="4267080"/>
          <a:ext cx="660600" cy="6098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724280" y="4267080"/>
                    <a:ext cx="660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0880" y="1488960"/>
                <a:ext cx="3657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02120" y="1547640"/>
                <a:ext cx="487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is slope,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is a poi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28600" y="838080"/>
            <a:ext cx="8686800" cy="1373760"/>
            <a:chOff x="228600" y="838080"/>
            <a:chExt cx="8686800" cy="1373760"/>
          </a:xfrm>
        </p:grpSpPr>
        <p:sp>
          <p:nvSpPr>
            <p:cNvPr id="142" name=""/>
            <p:cNvSpPr/>
            <p:nvPr/>
          </p:nvSpPr>
          <p:spPr>
            <a:xfrm>
              <a:off x="228600" y="838080"/>
              <a:ext cx="8686800" cy="13737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0000"/>
                  </a:solidFill>
                  <a:latin typeface="Times New Roman"/>
                </a:rPr>
                <a:t>Point-Slope Form of an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" y="13716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9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Use the point-slope form of a line to write an equation of the line that passes through the given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0" y="3197160"/>
                <a:ext cx="40384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8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47" name=""/>
          <p:cNvGraphicFramePr/>
          <p:nvPr/>
        </p:nvGraphicFramePr>
        <p:xfrm>
          <a:off x="3992400" y="2895480"/>
          <a:ext cx="263700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2400" y="2895480"/>
                    <a:ext cx="26370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36560" y="4156200"/>
                <a:ext cx="48466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0" name=""/>
          <p:cNvGraphicFramePr/>
          <p:nvPr/>
        </p:nvGraphicFramePr>
        <p:xfrm>
          <a:off x="4983120" y="3048120"/>
          <a:ext cx="3952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3120" y="3048120"/>
                    <a:ext cx="395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743440" y="3048120"/>
          <a:ext cx="703440" cy="52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3440" y="3048120"/>
                    <a:ext cx="7034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754520" y="3657600"/>
          <a:ext cx="747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4520" y="3657600"/>
                    <a:ext cx="747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875200" y="3657600"/>
          <a:ext cx="439920" cy="52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75200" y="3657600"/>
                    <a:ext cx="439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583320" y="2895480"/>
          <a:ext cx="1362240" cy="147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3320" y="2895480"/>
                    <a:ext cx="13622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137360" y="3048120"/>
          <a:ext cx="658800" cy="52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137360" y="3048120"/>
                    <a:ext cx="6588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7115040" y="3657600"/>
          <a:ext cx="74772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15040" y="3657600"/>
                    <a:ext cx="747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7802640" y="3276720"/>
          <a:ext cx="1141200" cy="52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02640" y="3276720"/>
                    <a:ext cx="114120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752480" y="4267080"/>
          <a:ext cx="462240" cy="60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52480" y="4267080"/>
                    <a:ext cx="4622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870280" y="4267080"/>
          <a:ext cx="873000" cy="609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70280" y="4267080"/>
                    <a:ext cx="87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4697280" y="4267080"/>
          <a:ext cx="874800" cy="609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697280" y="4267080"/>
                    <a:ext cx="874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838080" y="4876920"/>
          <a:ext cx="1852560" cy="761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38080" y="4876920"/>
                    <a:ext cx="1852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65360" y="4876920"/>
          <a:ext cx="200808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65360" y="4876920"/>
                    <a:ext cx="2008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733920" y="5334120"/>
          <a:ext cx="830160" cy="614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33920" y="5334120"/>
                    <a:ext cx="8301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295280" y="5334120"/>
          <a:ext cx="830520" cy="612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95280" y="5334120"/>
                    <a:ext cx="830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38080" y="59436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00200" y="6095880"/>
          <a:ext cx="514440" cy="762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600200" y="6095880"/>
                    <a:ext cx="514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108160" y="5943600"/>
          <a:ext cx="1698840" cy="6094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108160" y="5943600"/>
                    <a:ext cx="1698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316400" y="4280040"/>
          <a:ext cx="660240" cy="609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316400" y="428004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656240" y="4281480"/>
          <a:ext cx="660240" cy="6094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656240" y="4281480"/>
                    <a:ext cx="66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30960" y="2971800"/>
          <a:ext cx="466560" cy="5335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430960" y="2971800"/>
                    <a:ext cx="4665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745240" y="3124080"/>
          <a:ext cx="466560" cy="4572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745240" y="3124080"/>
                    <a:ext cx="466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0880" y="1488960"/>
                <a:ext cx="36576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002120" y="1547640"/>
                <a:ext cx="487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is slope,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is a poi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197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4. Use the linear model from Example 2 to predict your time to finish the 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00200" y="1905120"/>
          <a:ext cx="355608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5560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600200" y="2514600"/>
          <a:ext cx="49860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514600"/>
                    <a:ext cx="498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057400" y="2514600"/>
          <a:ext cx="332280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2514600"/>
                    <a:ext cx="33228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066680" y="3733920"/>
          <a:ext cx="121932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733920"/>
                    <a:ext cx="121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419120" y="4952880"/>
          <a:ext cx="83052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9120" y="4952880"/>
                    <a:ext cx="8305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066680" y="3124080"/>
          <a:ext cx="1141560" cy="614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6680" y="3124080"/>
                    <a:ext cx="11415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191120" y="3124080"/>
          <a:ext cx="114120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3124080"/>
                    <a:ext cx="1141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219320" y="3733920"/>
            <a:ext cx="4038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33720" y="3733920"/>
          <a:ext cx="2106360" cy="662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3720" y="3733920"/>
                    <a:ext cx="21063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971800" y="4343400"/>
          <a:ext cx="1244520" cy="61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71800" y="4343400"/>
                    <a:ext cx="12445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44720" y="4343400"/>
          <a:ext cx="124272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4720" y="4343400"/>
                    <a:ext cx="1242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948040" y="4343400"/>
            <a:ext cx="15238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4343400"/>
            <a:ext cx="12956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09680" y="4952880"/>
          <a:ext cx="997200" cy="606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09680" y="4952880"/>
                    <a:ext cx="9972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57200" y="5715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It would take 50 minutes to finish the r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369200" y="4510080"/>
            <a:ext cx="1387440" cy="2347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609480"/>
            <a:ext cx="9144000" cy="976320"/>
            <a:chOff x="0" y="609480"/>
            <a:chExt cx="9144000" cy="976320"/>
          </a:xfrm>
        </p:grpSpPr>
        <p:sp>
          <p:nvSpPr>
            <p:cNvPr id="229" name=""/>
            <p:cNvSpPr/>
            <p:nvPr/>
          </p:nvSpPr>
          <p:spPr>
            <a:xfrm>
              <a:off x="0" y="60948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riting and Using a Linear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" y="1066680"/>
              <a:ext cx="8839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990720"/>
            <a:ext cx="9144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5. You are running a 10-kilometer race. At 8:00 A.M., you start the race. At 8:30 A.M., you are 5 kilometers from the finish line. Write a linear model that gives the distance </a:t>
            </a:r>
            <a:r>
              <a:rPr b="1" i="1" lang="en-US" sz="2600" spc="-1" strike="noStrike">
                <a:solidFill>
                  <a:srgbClr val="006699"/>
                </a:solidFill>
                <a:latin typeface="Times New Roman"/>
              </a:rPr>
              <a:t>d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 (in kilometers) from the finish line in terms of the time </a:t>
            </a:r>
            <a:r>
              <a:rPr b="1" i="1" lang="en-US" sz="2600" spc="-1" strike="noStrike">
                <a:solidFill>
                  <a:srgbClr val="006699"/>
                </a:solidFill>
                <a:latin typeface="Times New Roman"/>
              </a:rPr>
              <a:t>t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 (in minutes). Let </a:t>
            </a:r>
            <a:r>
              <a:rPr b="1" i="1" lang="en-US" sz="2600" spc="-1" strike="noStrike">
                <a:solidFill>
                  <a:srgbClr val="006699"/>
                </a:solidFill>
                <a:latin typeface="Times New Roman"/>
              </a:rPr>
              <a:t>t </a:t>
            </a:r>
            <a:r>
              <a:rPr b="1" lang="en-US" sz="2600" spc="-1" strike="noStrike">
                <a:solidFill>
                  <a:srgbClr val="006699"/>
                </a:solidFill>
                <a:latin typeface="Times New Roman"/>
              </a:rPr>
              <a:t>represent the number of minutes since 8:00 A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825640" y="3670200"/>
                <a:ext cx="1422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33" name=""/>
          <p:cNvGraphicFramePr/>
          <p:nvPr/>
        </p:nvGraphicFramePr>
        <p:xfrm>
          <a:off x="263520" y="4543560"/>
          <a:ext cx="2655720" cy="143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4543560"/>
                    <a:ext cx="26557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266840" y="4646520"/>
          <a:ext cx="698400" cy="55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6840" y="4646520"/>
                    <a:ext cx="6984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3089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Points on the line in (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t,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410000" y="3683160"/>
                <a:ext cx="1457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39" name=""/>
          <p:cNvGraphicFramePr/>
          <p:nvPr/>
        </p:nvGraphicFramePr>
        <p:xfrm>
          <a:off x="2379600" y="4657680"/>
          <a:ext cx="41904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79600" y="4657680"/>
                    <a:ext cx="419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1430280" y="5392800"/>
          <a:ext cx="419040" cy="557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30280" y="5392800"/>
                    <a:ext cx="419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201760" y="5380200"/>
          <a:ext cx="698760" cy="556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1760" y="5380200"/>
                    <a:ext cx="69876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898720" y="4570560"/>
          <a:ext cx="1581120" cy="1576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98720" y="4570560"/>
                    <a:ext cx="1581120" cy="15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722760" y="4748040"/>
          <a:ext cx="419040" cy="557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722760" y="4748040"/>
                    <a:ext cx="419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3303720" y="5354640"/>
          <a:ext cx="1025280" cy="55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303720" y="5354640"/>
                    <a:ext cx="10252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444920" y="4543560"/>
          <a:ext cx="1400400" cy="14382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444920" y="4543560"/>
                    <a:ext cx="14004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20"/>
          <a:stretch/>
        </p:blipFill>
        <p:spPr>
          <a:xfrm>
            <a:off x="6132600" y="4432320"/>
            <a:ext cx="1433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782720" y="2166840"/>
                <a:ext cx="4872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56" name=""/>
          <p:cNvGraphicFramePr/>
          <p:nvPr/>
        </p:nvGraphicFramePr>
        <p:xfrm>
          <a:off x="2695680" y="2286000"/>
          <a:ext cx="7696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5680" y="2286000"/>
                    <a:ext cx="769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3990960" y="1981080"/>
          <a:ext cx="811080" cy="12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0960" y="1981080"/>
                    <a:ext cx="811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921280" y="2286000"/>
          <a:ext cx="4636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1280" y="2286000"/>
                    <a:ext cx="463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0040" y="3276720"/>
          <a:ext cx="247176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0040" y="3276720"/>
                    <a:ext cx="2471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762360" y="3352680"/>
          <a:ext cx="87480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62360" y="3352680"/>
                    <a:ext cx="874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4622760" y="3733920"/>
          <a:ext cx="1141560" cy="61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22760" y="3733920"/>
                    <a:ext cx="11415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184480" y="3733920"/>
          <a:ext cx="1141200" cy="61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84480" y="3733920"/>
                    <a:ext cx="1141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1882800" y="4343400"/>
            <a:ext cx="365760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543040" y="4343400"/>
          <a:ext cx="822600" cy="87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43040" y="4343400"/>
                    <a:ext cx="8226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305160" y="4419720"/>
          <a:ext cx="252252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05160" y="4419720"/>
                    <a:ext cx="2522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357280" y="660240"/>
                <a:ext cx="358632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 flipH="1">
            <a:off x="2771640" y="2971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753080" y="22096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703600" y="5029200"/>
          <a:ext cx="466560" cy="61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3600" y="502920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067280" y="5029200"/>
          <a:ext cx="466560" cy="612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67280" y="502920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543040" y="5029200"/>
            <a:ext cx="83844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36960" y="502920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210280" y="5029200"/>
          <a:ext cx="466560" cy="612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210280" y="5029200"/>
                    <a:ext cx="466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5079960" y="5029200"/>
            <a:ext cx="663480" cy="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467080" y="5867280"/>
          <a:ext cx="1166760" cy="747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67080" y="5867280"/>
                    <a:ext cx="11667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533760" y="5516640"/>
          <a:ext cx="1228680" cy="1341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533760" y="5516640"/>
                    <a:ext cx="1228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676760" y="5811840"/>
          <a:ext cx="1143000" cy="617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76760" y="5811840"/>
                    <a:ext cx="11430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31"/>
          <a:stretch/>
        </p:blipFill>
        <p:spPr>
          <a:xfrm>
            <a:off x="7369200" y="4510080"/>
            <a:ext cx="1387440" cy="2347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2"/>
          <a:stretch/>
        </p:blipFill>
        <p:spPr>
          <a:xfrm>
            <a:off x="6132600" y="4432320"/>
            <a:ext cx="14335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Notes Over 5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3:09:27Z</dcterms:created>
  <dc:creator>Don Helms</dc:creator>
  <dc:description/>
  <dc:language>en-US</dc:language>
  <cp:lastModifiedBy>damon.skelton</cp:lastModifiedBy>
  <dcterms:modified xsi:type="dcterms:W3CDTF">2004-10-19T13:22:57Z</dcterms:modified>
  <cp:revision>142</cp:revision>
  <dc:subject/>
  <dc:title>No Slide Title</dc:title>
</cp:coreProperties>
</file>